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F9F1-D4C5-4503-AD6A-FA681DCA6FE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012A-3CFF-4C6F-8320-282D72E32A7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9DF1-6782-4A59-B111-5F5377D3EA7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8682-FD6F-4350-8E9F-0748AA61685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F272-56F5-4838-9D6D-725B7927B94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923F-9C01-435A-BA87-A4F5F0A57E8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6D22-DD35-4891-A7E6-8C7BC16A743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CA04-B5F7-4747-8C3B-0659E8887F1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CF6B-7734-4FC0-8F8C-50E889EBC07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CF2D-16B0-43F5-92F6-158D0E6CB62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5CBF-4794-448F-BA16-50D78A65AA5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9DC4-AB81-419D-8498-A14DB66D03E1}" type="slidenum">
              <a:rPr b="0" lang="ko-K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4AFB-1B23-4D7C-A8C6-F24143CFD1F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31BC-B9F1-4FAA-9DEA-1CBCC2C22A4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539640" y="720720"/>
            <a:ext cx="5761080" cy="43196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灯片编号占位符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7A98-E34C-4A93-8B37-25133FFCAD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539640" y="720720"/>
            <a:ext cx="5761080" cy="43196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灯片编号占位符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7A9F-613E-4DB4-9390-A7086983DF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839C-EA9B-4154-919E-83CCDBFE3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AE2B-9AA3-41E9-8653-8EC9E130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B4AD-B3DA-4AED-BC6C-9B27A0DF8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89AB-3C0F-4385-9ABC-E8BABBCD3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96F2-B243-43ED-9E15-088B8A7D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9231-6F1F-4DA8-8F22-3C268BEE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CCBE-917E-442C-9D48-99FC3EB6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B3A7-2556-4591-A076-3A65FD09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45E1-6A6A-4895-BEA6-841B2034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AB83-CBDE-4322-94A1-C3DE756B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E29B-CB0C-4439-89B2-D8E904CE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9070-9D8E-47E8-985C-BE66B08F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7808-A3CB-49A0-BE7F-4BB04BD3B8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1" descr=""/>
          <p:cNvPicPr/>
          <p:nvPr/>
        </p:nvPicPr>
        <p:blipFill>
          <a:blip r:embed="rId1"/>
          <a:stretch/>
        </p:blipFill>
        <p:spPr>
          <a:xfrm>
            <a:off x="262080" y="0"/>
            <a:ext cx="8619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639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" descr="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13428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1" descr="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13428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2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210520" cy="45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3" descr=""/>
          <p:cNvPicPr/>
          <p:nvPr/>
        </p:nvPicPr>
        <p:blipFill>
          <a:blip r:embed="rId1"/>
          <a:stretch/>
        </p:blipFill>
        <p:spPr>
          <a:xfrm>
            <a:off x="355680" y="506520"/>
            <a:ext cx="8432640" cy="6235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1" descr=""/>
          <p:cNvPicPr/>
          <p:nvPr/>
        </p:nvPicPr>
        <p:blipFill>
          <a:blip r:embed="rId1"/>
          <a:stretch/>
        </p:blipFill>
        <p:spPr>
          <a:xfrm>
            <a:off x="262080" y="0"/>
            <a:ext cx="8619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" descr=""/>
          <p:cNvPicPr/>
          <p:nvPr/>
        </p:nvPicPr>
        <p:blipFill>
          <a:blip r:embed="rId1"/>
          <a:stretch/>
        </p:blipFill>
        <p:spPr>
          <a:xfrm>
            <a:off x="23760" y="1593720"/>
            <a:ext cx="9096480" cy="3670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2" descr=""/>
          <p:cNvPicPr/>
          <p:nvPr/>
        </p:nvPicPr>
        <p:blipFill>
          <a:blip r:embed="rId1"/>
          <a:stretch/>
        </p:blipFill>
        <p:spPr>
          <a:xfrm>
            <a:off x="279360" y="1844640"/>
            <a:ext cx="8585280" cy="233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2" descr=""/>
          <p:cNvPicPr/>
          <p:nvPr/>
        </p:nvPicPr>
        <p:blipFill>
          <a:blip r:embed="rId1"/>
          <a:stretch/>
        </p:blipFill>
        <p:spPr>
          <a:xfrm>
            <a:off x="407880" y="1073160"/>
            <a:ext cx="8328240" cy="471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3" descr=""/>
          <p:cNvPicPr/>
          <p:nvPr/>
        </p:nvPicPr>
        <p:blipFill>
          <a:blip r:embed="rId1"/>
          <a:stretch/>
        </p:blipFill>
        <p:spPr>
          <a:xfrm>
            <a:off x="0" y="774720"/>
            <a:ext cx="9144000" cy="530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" descr="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13431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2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6834240" cy="442584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2" descr=""/>
          <p:cNvPicPr/>
          <p:nvPr/>
        </p:nvPicPr>
        <p:blipFill>
          <a:blip r:embed="rId2"/>
          <a:stretch/>
        </p:blipFill>
        <p:spPr>
          <a:xfrm>
            <a:off x="0" y="5229360"/>
            <a:ext cx="9144000" cy="134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8537040" y="6527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30240" y="228600"/>
            <a:ext cx="38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同理心倾听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athic List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7720" y="660096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ab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12560" y="6524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861840" y="6607080"/>
            <a:ext cx="295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ek First to Understand, Then to Be Understo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9"/>
          <p:cNvSpPr/>
          <p:nvPr/>
        </p:nvSpPr>
        <p:spPr>
          <a:xfrm>
            <a:off x="723960" y="6629400"/>
            <a:ext cx="0" cy="19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1" descr=""/>
          <p:cNvPicPr/>
          <p:nvPr/>
        </p:nvPicPr>
        <p:blipFill>
          <a:blip r:embed="rId1"/>
          <a:stretch/>
        </p:blipFill>
        <p:spPr>
          <a:xfrm>
            <a:off x="407880" y="1069920"/>
            <a:ext cx="8328240" cy="538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8537040" y="6527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930240" y="228600"/>
            <a:ext cx="38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同理心倾听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athic List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7720" y="660096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ab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12560" y="6524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861840" y="6607080"/>
            <a:ext cx="295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ek First to Understand, Then to Be Understo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723960" y="6629400"/>
            <a:ext cx="0" cy="19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2" descr=""/>
          <p:cNvPicPr/>
          <p:nvPr/>
        </p:nvPicPr>
        <p:blipFill>
          <a:blip r:embed="rId1"/>
          <a:stretch/>
        </p:blipFill>
        <p:spPr>
          <a:xfrm>
            <a:off x="36360" y="1236600"/>
            <a:ext cx="9071280" cy="438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2T12:06:56Z</dcterms:created>
  <dc:creator>shentong6903@163.com</dc:creator>
  <dc:description/>
  <dc:language>en-US</dc:language>
  <cp:lastModifiedBy>Joanna</cp:lastModifiedBy>
  <cp:lastPrinted>2017-05-02T00:32:14Z</cp:lastPrinted>
  <dcterms:modified xsi:type="dcterms:W3CDTF">2019-05-16T01:46:35Z</dcterms:modified>
  <cp:revision>1199</cp:revision>
  <dc:subject/>
  <dc:title>幻灯片 1</dc:title>
</cp:coreProperties>
</file>